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155-F97D-4169-87D4-2CA3F2F1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063-5E2E-4962-AC92-E554E4A8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9C9-C174-41C5-8246-5FE392A0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D73-424E-49E1-937C-1038CE33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4AF-991B-4EA1-A94C-3BFE6EDC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29B-7E4F-4DA9-9068-7CF58812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935-3D8A-4200-9D1E-1D487B96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182-F7C6-4674-9A0E-AB5F3189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F6C-292C-43FF-933F-0873F63B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759-50FE-4925-ADCA-FA71197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AC7-2E98-477A-8C7A-44F5F026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82F-1BD5-4D4F-B83D-7D95627C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F84A-5F7A-46CF-9F70-2CCBA2A68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file:///../../../Downloaded%20Videos/Amoeba%20Feeds!.avi" TargetMode="External"/><Relationship Id="rId5" Type="http://schemas.openxmlformats.org/officeDocument/2006/relationships/hyperlink" Target="file:///../../../Downloaded%20Videos/Amoeba%20Feeds!.avi" TargetMode="External"/><Relationship Id="rId6" Type="http://schemas.openxmlformats.org/officeDocument/2006/relationships/hyperlink" Target="file:///../../../Downloaded%20Videos/Paramecium%20Feeding.avi" TargetMode="External"/><Relationship Id="rId7" Type="http://schemas.openxmlformats.org/officeDocument/2006/relationships/hyperlink" Target="file:///../../../Downloaded%20Videos/Paramecium%20Feeding.avi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Prokaryotic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429000" cy="310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34340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19720" y="3352680"/>
            <a:ext cx="304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6194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ic vs. Eukaryotic 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143000"/>
          <a:ext cx="8381880" cy="305748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ly unicellular (one cell) organ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 bacte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ly multicellular (many cells) organ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 animals, plants, fungi, prot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322360" cy="224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4343400"/>
            <a:ext cx="1457280" cy="201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638680" y="5181480"/>
            <a:ext cx="1828800" cy="148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391520" y="4343400"/>
            <a:ext cx="126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at’s a “Protist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icellular (one-celled) eukary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Amoeba, Paramecium, Eug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3305160" cy="245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429000" y="4419720"/>
            <a:ext cx="3438360" cy="2247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638680" y="2590920"/>
            <a:ext cx="2895840" cy="2208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7680" y="529416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.\..\..\Downloaded Videos\Amoeb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eeds!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50292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.\..\..\Downloaded Videos\Parameciu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eeding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hat is the main difference between a prokaryotic and eukaryotic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What are the parts of a nucleus and where are they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What types of organisms have prokaryotic and eukaryotic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What are the parts of a prokaryotic cell and what are their fu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in difference between a prokaryotic and eukaryotic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s of organisms have prokaryotic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s of organisms have eukaryotic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h, that’s right…the nucle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u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ary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rnel”) = tru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aryo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rnel”) = before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rrrr…. Pro =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Nucl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uclear envelop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membranes surrounding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uclear por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es in the envelope that allow substances in an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ucleoplas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cytoplasm of the nucleus”; this is where DNA i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ucleolu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all region inside the nucleus where ribosomes ar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f prokaryotes don’t have a nucleus, where is their D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ic DNA is found in a region of the cytoplasm called the “nucleoid reg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iled into linear (X-shaped) chromosomes; unwound in a circula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59388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0120" y="2590920"/>
            <a:ext cx="761760" cy="6858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Prokaryotic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id Re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8103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Organelles that are NOT Found in Prokaryo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with a membrane around it! (AKA membrane-bound organel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ER, Golgi, vacuoles, mitochondria,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62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23:27:49Z</dcterms:created>
  <dc:creator>Kate</dc:creator>
  <dc:description/>
  <dc:language>en-US</dc:language>
  <cp:lastModifiedBy>Kate</cp:lastModifiedBy>
  <dcterms:modified xsi:type="dcterms:W3CDTF">2011-11-08T21:18:23Z</dcterms:modified>
  <cp:revision>6</cp:revision>
  <dc:subject/>
  <dc:title>Slide 1</dc:title>
</cp:coreProperties>
</file>